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10515600" cy="7315200"/>
  <p:notesSz cx="6858000" cy="9294813"/>
  <p:custShowLst>
    <p:custShow name="Chapter Resources" id="0">
      <p:sldLst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A334-D64A-45F1-89E7-88204650D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B9E3-071B-480B-9F27-73ED241D5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98AF-9EB2-4194-9299-295DD4341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8E7F-EC30-4712-9303-5DB909D8E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C7CF-B1D3-406F-B554-16F04DB61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4730-8C4B-44C9-B6DF-0B29B4ED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ACA7-7ED8-4A23-80AF-9E9F112EE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FECD-B4AC-4FBA-86BF-7880EA562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24A5-9232-4867-B1CA-8F5D684A0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4813-30CB-4033-9734-D5F48C147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C0AE-91BE-48C9-80F1-6FB9E4B82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6B63-C6C1-4BE2-941C-371E7B2A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044-7620-4C84-8A12-2AD14709C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5CF2-F1E1-44F8-9523-BDD53F8E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D31C-279F-45B7-A9DC-212A16F1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4B47-E763-4760-8B50-3DFD30BD5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8D56-F4D2-4FED-9B2F-E626D3806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1BFA-9234-45B4-9B1A-313AD0DDD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BE77-02DB-47E6-B6E4-2EA758A31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DAC7-77F0-44AE-8A30-3E4E71A16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4707-509A-44D7-846D-FF1EC696E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030E-5905-44D0-9816-2186CDEC7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E91E-DB97-4DF6-BF2D-CF50849D8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5556-7089-4D0E-86E8-089FEFF3E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7B1F-CC36-42BC-9AEB-AED22C93C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FD76-6BE1-4260-A0D2-B0E908E9C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6DFC-81D7-4BDC-BCB2-42097674A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BA0B-7D05-4A9B-A152-F69213E7C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9E03-91F0-401D-982A-C8EFF1AE4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6E44-AE3B-4C1E-AE7F-05B6ECCF0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9EBD-1A3A-4E15-9A48-8AA94A411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614F-C885-47EC-B8F3-B1EA5FA72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AD95-4606-4B5F-8B8C-E571EB8F9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263-C928-4762-A7F4-31B751E7F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04DF-94E4-4199-8E32-0AEE286B7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3DD1-8356-4E0E-A4EC-AD933EFF2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C77F-D747-4B59-A065-BA1F8E478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1AC2-FA5E-4CC6-B3C6-4240F432E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7D00-82D5-4D17-889F-EEB4FB39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D2D1-337A-4388-BAF4-D8CDBB21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B42E-585D-4852-B4E5-77EBA1E19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DFF6-2B8A-4BF8-88CF-5B573C847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/>
          <p:cNvPicPr/>
          <p:nvPr/>
        </p:nvPicPr>
        <p:blipFill>
          <a:blip r:embed="rId4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/>
          <p:cNvPicPr/>
          <p:nvPr/>
        </p:nvPicPr>
        <p:blipFill>
          <a:blip r:embed="rId3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6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1280" indent="-2491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47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33440" indent="-2473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20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rrying_capacity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file:///tmp/home/.config/libreoffice/4/user/gallery/demography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zero_population_growth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file:///tmp/home/.config/libreoffice/4/user/gallery/age_structure.wav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ispersion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population_density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nsity_independent_factor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nsity_dependent_factor.wav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opulation_growth_rate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785880" y="13096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ogistic Grow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785880" y="2117880"/>
            <a:ext cx="42433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’s growth slows or stops following exponential growth, at the population’s carrying capa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ch 4 im 11"/>
          <p:cNvPicPr/>
          <p:nvPr/>
        </p:nvPicPr>
        <p:blipFill>
          <a:blip r:embed="rId1"/>
          <a:stretch/>
        </p:blipFill>
        <p:spPr>
          <a:xfrm>
            <a:off x="5425920" y="1919160"/>
            <a:ext cx="4480200" cy="34261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785880" y="1628640"/>
            <a:ext cx="80532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pulation stops increasing when the number of births is less than the number of deaths or when emigration exceeds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4" descr="conceptsinmotion"/>
          <p:cNvPicPr/>
          <p:nvPr/>
        </p:nvPicPr>
        <p:blipFill>
          <a:blip r:embed="rId1"/>
          <a:stretch/>
        </p:blipFill>
        <p:spPr>
          <a:xfrm>
            <a:off x="7513560" y="522360"/>
            <a:ext cx="2425680" cy="380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MAC OSX sm button"/>
          <p:cNvPicPr/>
          <p:nvPr/>
        </p:nvPicPr>
        <p:blipFill>
          <a:blip r:embed="rId2"/>
          <a:stretch/>
        </p:blipFill>
        <p:spPr>
          <a:xfrm>
            <a:off x="8686800" y="6059520"/>
            <a:ext cx="1054080" cy="5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8" name="cmFlash782"/>
          <p:cNvGraphicFramePr/>
          <p:nvPr/>
        </p:nvGraphicFramePr>
        <p:xfrm>
          <a:off x="990720" y="957240"/>
          <a:ext cx="7621560" cy="571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cmFlash78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957240"/>
                    <a:ext cx="76215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85880" y="13096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arrying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85880" y="2021040"/>
            <a:ext cx="86630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maximum number of individuals in a species that an environment can suppo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long term is 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785880" y="370512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ing capacity is limited by the *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31240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785880" y="13096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productiv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785880" y="2014560"/>
            <a:ext cx="86630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of organisms vary in the number of births per reproduction cycle, in the age that reproduction begins, and in the life span of the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785880" y="3316320"/>
            <a:ext cx="9043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rategist is generally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785880" y="401652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785880" y="471312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785880" y="1643040"/>
            <a:ext cx="86630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te strategy,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rategy, is an adaptation for living in an environment where fluctuation in biotic or abiotic factors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785880" y="3316320"/>
            <a:ext cx="9043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rategist is generally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785880" y="401652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785880" y="470520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785880" y="1647720"/>
            <a:ext cx="85867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rying-capacity strategy, 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rategy, is an adaptation for living in stable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85880" y="1309680"/>
            <a:ext cx="8739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uman Population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790560" y="1828800"/>
            <a:ext cx="88106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udy of human population size, density, distribution, movement, and birth and death rates is </a:t>
            </a:r>
            <a:r>
              <a:rPr b="0" lang="en-US" sz="2600" spc="-1" strike="noStrike">
                <a:solidFill>
                  <a:srgbClr val="a6000d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3" descr="ch 4 im 17"/>
          <p:cNvPicPr/>
          <p:nvPr/>
        </p:nvPicPr>
        <p:blipFill>
          <a:blip r:embed="rId1"/>
          <a:stretch/>
        </p:blipFill>
        <p:spPr>
          <a:xfrm>
            <a:off x="2378160" y="2786040"/>
            <a:ext cx="5761080" cy="3790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6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7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913960" y="228600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85880" y="1309680"/>
            <a:ext cx="84344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chnological 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790560" y="2014560"/>
            <a:ext cx="881064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For thousands of years, environmental conditions kept the size of the human population at a relatively constant numb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ow the environment’s carrying capa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790560" y="4191120"/>
            <a:ext cx="88106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umans have learned to alter the environment in ways that appear to have changed its carrying capa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785880" y="1309680"/>
            <a:ext cx="4776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uman Population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790560" y="2600280"/>
            <a:ext cx="40114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 human population is still growing, the rate of its growth has s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ch 4 im 19"/>
          <p:cNvPicPr/>
          <p:nvPr/>
        </p:nvPicPr>
        <p:blipFill>
          <a:blip r:embed="rId1"/>
          <a:stretch/>
        </p:blipFill>
        <p:spPr>
          <a:xfrm>
            <a:off x="5511960" y="1393920"/>
            <a:ext cx="4241520" cy="44733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9"/>
          <p:cNvSpPr/>
          <p:nvPr/>
        </p:nvSpPr>
        <p:spPr>
          <a:xfrm>
            <a:off x="519120" y="593640"/>
            <a:ext cx="9448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200" spc="-1" strike="noStrike">
                <a:solidFill>
                  <a:srgbClr val="a6000d"/>
                </a:solidFill>
                <a:latin typeface="Arial"/>
              </a:rPr>
              <a:t>Population 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2274840" y="2446200"/>
            <a:ext cx="80503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2281320" y="3097080"/>
            <a:ext cx="73990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785880" y="1309680"/>
            <a:ext cx="84344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rends in Human Populatio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90560" y="1957320"/>
            <a:ext cx="28656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trends can be altered by events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ch 4 im 20"/>
          <p:cNvPicPr/>
          <p:nvPr/>
        </p:nvPicPr>
        <p:blipFill>
          <a:blip r:embed="rId1"/>
          <a:stretch/>
        </p:blipFill>
        <p:spPr>
          <a:xfrm>
            <a:off x="3733920" y="2084400"/>
            <a:ext cx="6253200" cy="36320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7"/>
          <p:cNvGrpSpPr/>
          <p:nvPr/>
        </p:nvGrpSpPr>
        <p:grpSpPr>
          <a:xfrm>
            <a:off x="790560" y="4987800"/>
            <a:ext cx="8886960" cy="1555200"/>
            <a:chOff x="790560" y="4987800"/>
            <a:chExt cx="8886960" cy="1555200"/>
          </a:xfrm>
        </p:grpSpPr>
        <p:sp>
          <p:nvSpPr>
            <p:cNvPr id="292" name="Text Box 8"/>
            <p:cNvSpPr/>
            <p:nvPr/>
          </p:nvSpPr>
          <p:spPr>
            <a:xfrm>
              <a:off x="790560" y="4987800"/>
              <a:ext cx="36291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buClr>
                  <a:srgbClr val="a6000d"/>
                </a:buClr>
                <a:buFont typeface="Wingdings" charset="2"/>
                <a:buChar char="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uman popul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6"/>
            <p:cNvSpPr/>
            <p:nvPr/>
          </p:nvSpPr>
          <p:spPr>
            <a:xfrm>
              <a:off x="1038240" y="5954400"/>
              <a:ext cx="863928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rowth is not the same in all countri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2"/>
          <p:cNvSpPr/>
          <p:nvPr/>
        </p:nvSpPr>
        <p:spPr>
          <a:xfrm>
            <a:off x="785880" y="2021040"/>
            <a:ext cx="84344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Zero population grow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ZPG) occurs when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785880" y="1309680"/>
            <a:ext cx="84344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Zero Populatio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785880" y="3211560"/>
            <a:ext cx="85104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ge structure eventually should be more balanced with numbers at pre-reproductive, reproductive, and post-reproductive ages being approximately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259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785880" y="1309680"/>
            <a:ext cx="889164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3"/>
          <p:cNvGrpSpPr/>
          <p:nvPr/>
        </p:nvGrpSpPr>
        <p:grpSpPr>
          <a:xfrm>
            <a:off x="785880" y="1957320"/>
            <a:ext cx="8967600" cy="3949920"/>
            <a:chOff x="785880" y="1957320"/>
            <a:chExt cx="8967600" cy="3949920"/>
          </a:xfrm>
        </p:grpSpPr>
        <p:sp>
          <p:nvSpPr>
            <p:cNvPr id="304" name="Text Box 10"/>
            <p:cNvSpPr/>
            <p:nvPr/>
          </p:nvSpPr>
          <p:spPr>
            <a:xfrm>
              <a:off x="785880" y="1957320"/>
              <a:ext cx="2795400" cy="30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buClr>
                  <a:srgbClr val="a6000d"/>
                </a:buClr>
                <a:buFont typeface="Wingdings" charset="2"/>
                <a:buChar char="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population’s </a:t>
              </a:r>
              <a:r>
                <a:rPr b="0" lang="en-US" sz="2800" spc="-1" strike="noStrike">
                  <a:solidFill>
                    <a:srgbClr val="a6000d"/>
                  </a:solidFill>
                  <a:latin typeface="Arial"/>
                </a:rPr>
                <a:t>age structur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s the number of males and females in each of three age groups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1042920" y="4952880"/>
              <a:ext cx="871056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ffc000"/>
                  </a:solidFill>
                  <a:latin typeface="Arial"/>
                </a:rPr>
                <a:t>pre-reproductive stage, reproductive stage, and post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ffc000"/>
                  </a:solidFill>
                  <a:latin typeface="Arial"/>
                </a:rPr>
                <a:t>reproductive stage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"/>
          <p:cNvPicPr/>
          <p:nvPr/>
        </p:nvPicPr>
        <p:blipFill>
          <a:blip r:embed="rId1"/>
          <a:stretch/>
        </p:blipFill>
        <p:spPr>
          <a:xfrm>
            <a:off x="3505320" y="1792440"/>
            <a:ext cx="6476760" cy="3193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7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54864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5391000" y="1309680"/>
            <a:ext cx="435960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man Carry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5391000" y="1957320"/>
            <a:ext cx="428652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are concerned about the human population reaching or exceeding the carrying capa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ch 4 im 23"/>
          <p:cNvPicPr/>
          <p:nvPr/>
        </p:nvPicPr>
        <p:blipFill>
          <a:blip r:embed="rId1"/>
          <a:stretch/>
        </p:blipFill>
        <p:spPr>
          <a:xfrm>
            <a:off x="671400" y="1392120"/>
            <a:ext cx="4461120" cy="51469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9"/>
          <p:cNvSpPr/>
          <p:nvPr/>
        </p:nvSpPr>
        <p:spPr>
          <a:xfrm>
            <a:off x="5391000" y="4314960"/>
            <a:ext cx="451512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n important factor is the amount of resources from the biosphere that are used by each per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Huma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4" descr="Bio-Forward"/>
          <p:cNvPicPr/>
          <p:nvPr/>
        </p:nvPicPr>
        <p:blipFill>
          <a:blip r:embed="rId2"/>
          <a:stretch/>
        </p:blipFill>
        <p:spPr>
          <a:xfrm>
            <a:off x="6640560" y="6745320"/>
            <a:ext cx="47952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DQ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1508040" y="2940120"/>
            <a:ext cx="687240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ig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8"/>
          <p:cNvSpPr/>
          <p:nvPr/>
        </p:nvSpPr>
        <p:spPr>
          <a:xfrm>
            <a:off x="1457280" y="414036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term is used to describe the number of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s moving into a population?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4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DQ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7"/>
          <p:cNvSpPr/>
          <p:nvPr/>
        </p:nvSpPr>
        <p:spPr>
          <a:xfrm>
            <a:off x="1447920" y="350532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1523880" y="3048120"/>
            <a:ext cx="769644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557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of spacing of a population in 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557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rganisms in 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557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a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557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ner in which a population g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57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population density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5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DQ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95400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Diagnost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3"/>
          <p:cNvSpPr/>
          <p:nvPr/>
        </p:nvSpPr>
        <p:spPr>
          <a:xfrm>
            <a:off x="1508040" y="2509920"/>
            <a:ext cx="77882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irth rate equals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eath rate exceeds bir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irth rate exceeds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are zero bir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1438200" y="252396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en does zero population growth occur?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1508040" y="2514600"/>
            <a:ext cx="63435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3"/>
          <p:cNvSpPr/>
          <p:nvPr/>
        </p:nvSpPr>
        <p:spPr>
          <a:xfrm>
            <a:off x="1457280" y="263844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is a density-dependent factor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1508040" y="2514600"/>
            <a:ext cx="60357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1"/>
          <p:cNvSpPr/>
          <p:nvPr/>
        </p:nvSpPr>
        <p:spPr>
          <a:xfrm>
            <a:off x="1442880" y="3214800"/>
            <a:ext cx="60984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is a density-independent factor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4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1508040" y="3011400"/>
            <a:ext cx="741060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mig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d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vailable nutr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xtreme temper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3"/>
          <p:cNvSpPr/>
          <p:nvPr/>
        </p:nvSpPr>
        <p:spPr>
          <a:xfrm>
            <a:off x="1461960" y="420048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1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factor can limit the carrying capaci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f a populatio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8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0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Population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790560" y="20210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790560" y="272556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pat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2"/>
          <p:cNvSpPr/>
          <p:nvPr/>
        </p:nvSpPr>
        <p:spPr>
          <a:xfrm>
            <a:off x="790560" y="342900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Disper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6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038480"/>
            <a:ext cx="411120" cy="35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7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1972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508040" y="3400560"/>
            <a:ext cx="59594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ioinfor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c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thn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4"/>
          <p:cNvSpPr/>
          <p:nvPr/>
        </p:nvSpPr>
        <p:spPr>
          <a:xfrm>
            <a:off x="1447920" y="408924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PQuestion"/>
          <p:cNvSpPr/>
          <p:nvPr/>
        </p:nvSpPr>
        <p:spPr>
          <a:xfrm>
            <a:off x="1170000" y="1717560"/>
            <a:ext cx="812952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udy of the size, density, distribu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 movement of the human popul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 _______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22"/>
          <p:cNvGrpSpPr/>
          <p:nvPr/>
        </p:nvGrpSpPr>
        <p:grpSpPr>
          <a:xfrm>
            <a:off x="1508040" y="3657600"/>
            <a:ext cx="4665600" cy="2583360"/>
            <a:chOff x="1508040" y="3657600"/>
            <a:chExt cx="4665600" cy="2583360"/>
          </a:xfrm>
        </p:grpSpPr>
        <p:sp>
          <p:nvSpPr>
            <p:cNvPr id="395" name="Text Box 16"/>
            <p:cNvSpPr/>
            <p:nvPr/>
          </p:nvSpPr>
          <p:spPr>
            <a:xfrm>
              <a:off x="1508040" y="3657600"/>
              <a:ext cx="4664160" cy="16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343080" indent="-343080">
                <a:lnSpc>
                  <a:spcPct val="120000"/>
                </a:lnSpc>
                <a:buClr>
                  <a:srgbClr val="a6000d"/>
                </a:buClr>
                <a:buFont typeface="Arial"/>
                <a:buAutoNum type="alphaUcPeriod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creased agricultu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buClr>
                  <a:srgbClr val="a6000d"/>
                </a:buClr>
                <a:buFont typeface="Arial"/>
                <a:buAutoNum type="alphaUcPeriod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amine and wa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0000"/>
                </a:lnSpc>
                <a:buClr>
                  <a:srgbClr val="a6000d"/>
                </a:buClr>
                <a:buFont typeface="Arial"/>
                <a:buAutoNum type="alphaUcPeriod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tbacks in medici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17"/>
            <p:cNvGrpSpPr/>
            <p:nvPr/>
          </p:nvGrpSpPr>
          <p:grpSpPr>
            <a:xfrm>
              <a:off x="1509840" y="5195880"/>
              <a:ext cx="4663800" cy="1045080"/>
              <a:chOff x="1509840" y="5195880"/>
              <a:chExt cx="4663800" cy="1045080"/>
            </a:xfrm>
          </p:grpSpPr>
          <p:sp>
            <p:nvSpPr>
              <p:cNvPr id="397" name="Text Box 18"/>
              <p:cNvSpPr/>
              <p:nvPr/>
            </p:nvSpPr>
            <p:spPr>
              <a:xfrm>
                <a:off x="1509840" y="5195880"/>
                <a:ext cx="4663800" cy="6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marL="343080" indent="-343080">
                  <a:lnSpc>
                    <a:spcPct val="120000"/>
                  </a:lnSpc>
                  <a:buClr>
                    <a:srgbClr val="a6000d"/>
                  </a:buClr>
                  <a:buFont typeface="Arial"/>
                  <a:buAutoNum type="alphaUcPeriod" startAt="4"/>
                  <a:tabLst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oluntary popula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19"/>
              <p:cNvSpPr/>
              <p:nvPr/>
            </p:nvSpPr>
            <p:spPr>
              <a:xfrm>
                <a:off x="1962000" y="5627880"/>
                <a:ext cx="3595680" cy="6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 marL="343080" indent="-343080">
                  <a:lnSpc>
                    <a:spcPct val="120000"/>
                  </a:lnSpc>
                  <a:tabLst>
                    <a:tab algn="l" pos="0"/>
                    <a:tab algn="l" pos="1019160"/>
                    <a:tab algn="l" pos="2038320"/>
                    <a:tab algn="l" pos="3057480"/>
                    <a:tab algn="l" pos="4076640"/>
                    <a:tab algn="l" pos="5095800"/>
                    <a:tab algn="l" pos="6114960"/>
                    <a:tab algn="l" pos="7134120"/>
                    <a:tab algn="l" pos="8153280"/>
                    <a:tab algn="l" pos="9172440"/>
                    <a:tab algn="l" pos="101916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contro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Oval 20"/>
          <p:cNvSpPr/>
          <p:nvPr/>
        </p:nvSpPr>
        <p:spPr>
          <a:xfrm>
            <a:off x="1442880" y="528480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1" descr="ch 4 im 19"/>
          <p:cNvPicPr/>
          <p:nvPr/>
        </p:nvPicPr>
        <p:blipFill>
          <a:blip r:embed="rId2"/>
          <a:stretch/>
        </p:blipFill>
        <p:spPr>
          <a:xfrm>
            <a:off x="5867280" y="2743200"/>
            <a:ext cx="3467160" cy="3657600"/>
          </a:xfrm>
          <a:prstGeom prst="rect">
            <a:avLst/>
          </a:prstGeom>
          <a:ln w="0">
            <a:noFill/>
          </a:ln>
        </p:spPr>
      </p:pic>
      <p:sp>
        <p:nvSpPr>
          <p:cNvPr id="401" name="TPQuestion"/>
          <p:cNvSpPr/>
          <p:nvPr/>
        </p:nvSpPr>
        <p:spPr>
          <a:xfrm>
            <a:off x="1170000" y="1717560"/>
            <a:ext cx="49068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is a primary reason for the decline in the percent growth of the human population after 1962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8" descr="Assesment"/>
          <p:cNvPicPr/>
          <p:nvPr/>
        </p:nvPicPr>
        <p:blipFill>
          <a:blip r:embed="rId3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7391520" y="4724280"/>
            <a:ext cx="380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Q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101124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Section 2 Formative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1508040" y="3014640"/>
            <a:ext cx="512460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G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8"/>
          <p:cNvSpPr/>
          <p:nvPr/>
        </p:nvSpPr>
        <p:spPr>
          <a:xfrm>
            <a:off x="1447920" y="488484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PQuestion"/>
          <p:cNvSpPr/>
          <p:nvPr/>
        </p:nvSpPr>
        <p:spPr>
          <a:xfrm>
            <a:off x="1170000" y="1717560"/>
            <a:ext cx="81262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ill happen to the human popul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e birthrate equals the death rat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0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Q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2" descr="ch 4 ct q 1"/>
          <p:cNvPicPr/>
          <p:nvPr/>
        </p:nvPicPr>
        <p:blipFill>
          <a:blip r:embed="rId2"/>
          <a:stretch/>
        </p:blipFill>
        <p:spPr>
          <a:xfrm>
            <a:off x="4724280" y="28195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3"/>
          <p:cNvSpPr/>
          <p:nvPr/>
        </p:nvSpPr>
        <p:spPr>
          <a:xfrm>
            <a:off x="1508040" y="3417840"/>
            <a:ext cx="7024680" cy="22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gis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4"/>
          <p:cNvSpPr/>
          <p:nvPr/>
        </p:nvSpPr>
        <p:spPr>
          <a:xfrm>
            <a:off x="1447920" y="352116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92556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Assessm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PQuestion"/>
          <p:cNvSpPr/>
          <p:nvPr/>
        </p:nvSpPr>
        <p:spPr>
          <a:xfrm>
            <a:off x="1170000" y="1717560"/>
            <a:ext cx="49068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type of population growth model does this graph represent?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7" descr="Assesment"/>
          <p:cNvPicPr/>
          <p:nvPr/>
        </p:nvPicPr>
        <p:blipFill>
          <a:blip r:embed="rId3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Q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3" descr="ch 4 im 23"/>
          <p:cNvPicPr/>
          <p:nvPr/>
        </p:nvPicPr>
        <p:blipFill>
          <a:blip r:embed="rId2"/>
          <a:stretch/>
        </p:blipFill>
        <p:spPr>
          <a:xfrm>
            <a:off x="7140600" y="1414440"/>
            <a:ext cx="2251080" cy="25956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14"/>
          <p:cNvSpPr/>
          <p:nvPr/>
        </p:nvSpPr>
        <p:spPr>
          <a:xfrm>
            <a:off x="1508040" y="3054240"/>
            <a:ext cx="595944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a has very little land for farm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rmany is smaller per acre than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e United Sta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land is used to support an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ndividual in the United Stat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person in Indonesia requires more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land than a person in Brazi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24"/>
          <p:cNvSpPr/>
          <p:nvPr/>
        </p:nvSpPr>
        <p:spPr>
          <a:xfrm>
            <a:off x="1433520" y="447660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92556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Assessm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PQuestion"/>
          <p:cNvSpPr/>
          <p:nvPr/>
        </p:nvSpPr>
        <p:spPr>
          <a:xfrm>
            <a:off x="1170000" y="1717560"/>
            <a:ext cx="58402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the information in the graph, infer which statement accurately represents the information provid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8" descr="Assesment"/>
          <p:cNvPicPr/>
          <p:nvPr/>
        </p:nvPicPr>
        <p:blipFill>
          <a:blip r:embed="rId3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2"/>
          <p:cNvSpPr/>
          <p:nvPr/>
        </p:nvSpPr>
        <p:spPr>
          <a:xfrm>
            <a:off x="1170000" y="1717560"/>
            <a:ext cx="77439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se the graph to explain the growth of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ice popu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ch 4 im 9 and 10"/>
          <p:cNvPicPr/>
          <p:nvPr/>
        </p:nvPicPr>
        <p:blipFill>
          <a:blip r:embed="rId1"/>
          <a:stretch/>
        </p:blipFill>
        <p:spPr>
          <a:xfrm>
            <a:off x="3132000" y="2938320"/>
            <a:ext cx="4230720" cy="320832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10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92556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Assessm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Q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6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14"/>
          <p:cNvGrpSpPr/>
          <p:nvPr/>
        </p:nvGrpSpPr>
        <p:grpSpPr>
          <a:xfrm>
            <a:off x="1170000" y="1517760"/>
            <a:ext cx="9043920" cy="4849560"/>
            <a:chOff x="1170000" y="1517760"/>
            <a:chExt cx="9043920" cy="4849560"/>
          </a:xfrm>
        </p:grpSpPr>
        <p:sp>
          <p:nvSpPr>
            <p:cNvPr id="443" name="Text Box 4"/>
            <p:cNvSpPr/>
            <p:nvPr/>
          </p:nvSpPr>
          <p:spPr>
            <a:xfrm>
              <a:off x="1170000" y="1517760"/>
              <a:ext cx="90439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a6000d"/>
                  </a:solidFill>
                  <a:latin typeface="Arial"/>
                  <a:ea typeface="Times New Roman"/>
                </a:rPr>
                <a:t>Answer: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If two adult mice breed and produce a litt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5"/>
            <p:cNvSpPr/>
            <p:nvPr/>
          </p:nvSpPr>
          <p:spPr>
            <a:xfrm>
              <a:off x="2557440" y="1910160"/>
              <a:ext cx="6891480" cy="44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d their offspring survive to breed, then th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pulation grows slowly at first. This slow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owth is defined as the lag phase. The rat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 population growth begins to increas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pidly because the total number of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ganisms that are able to reproduce ha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creased. Exponential growth occurs whe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growth rate is proportional to the size of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population. All populations grow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xponentially until some limiting factor slows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population’s growth.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9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3"/>
          <p:cNvSpPr/>
          <p:nvPr/>
        </p:nvSpPr>
        <p:spPr>
          <a:xfrm>
            <a:off x="925560" y="600120"/>
            <a:ext cx="39798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 Assessmen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386080" y="7314840"/>
            <a:ext cx="812952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AQ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0" descr="Assesment"/>
          <p:cNvPicPr/>
          <p:nvPr/>
        </p:nvPicPr>
        <p:blipFill>
          <a:blip r:embed="rId1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2323800" y="7419600"/>
            <a:ext cx="820260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1508040" y="3643200"/>
            <a:ext cx="550224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18"/>
          <p:cNvSpPr/>
          <p:nvPr/>
        </p:nvSpPr>
        <p:spPr>
          <a:xfrm>
            <a:off x="1433520" y="525312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9"/>
          <p:cNvSpPr/>
          <p:nvPr/>
        </p:nvSpPr>
        <p:spPr>
          <a:xfrm>
            <a:off x="1011240" y="600120"/>
            <a:ext cx="3979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a6000d"/>
                </a:solidFill>
                <a:latin typeface="Arial"/>
              </a:rPr>
              <a:t>Standardized Test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PQuestion"/>
          <p:cNvSpPr/>
          <p:nvPr/>
        </p:nvSpPr>
        <p:spPr>
          <a:xfrm>
            <a:off x="1170000" y="1717560"/>
            <a:ext cx="82026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ecologist estimates a population density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3 lemmings per square meter of tundra. W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be the approximate number of lemming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ver 1000 square meters of tundra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4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2"/>
          <p:cNvSpPr>
            <a:spLocks noGrp="1"/>
          </p:cNvSpPr>
          <p:nvPr>
            <p:ph type="title"/>
          </p:nvPr>
        </p:nvSpPr>
        <p:spPr>
          <a:xfrm>
            <a:off x="2323800" y="7419600"/>
            <a:ext cx="820260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1011240" y="600120"/>
            <a:ext cx="3979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a6000d"/>
                </a:solidFill>
                <a:latin typeface="Arial"/>
              </a:rPr>
              <a:t>Standardized Test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1508040" y="3643200"/>
            <a:ext cx="695016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gistic spa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ati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3"/>
          <p:cNvSpPr/>
          <p:nvPr/>
        </p:nvSpPr>
        <p:spPr>
          <a:xfrm>
            <a:off x="1433520" y="4230720"/>
            <a:ext cx="60948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PQuestion"/>
          <p:cNvSpPr/>
          <p:nvPr/>
        </p:nvSpPr>
        <p:spPr>
          <a:xfrm>
            <a:off x="1170000" y="1717560"/>
            <a:ext cx="82026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ecologist finds that over a 1000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lot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ndra, lemmings tend to concentrate in clump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drier areas.  What is the term for this patter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 spacing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5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2323800" y="7419600"/>
            <a:ext cx="820260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1011240" y="600120"/>
            <a:ext cx="3979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a6000d"/>
                </a:solidFill>
                <a:latin typeface="Arial"/>
              </a:rPr>
              <a:t>Standardized Test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2"/>
          <p:cNvSpPr/>
          <p:nvPr/>
        </p:nvSpPr>
        <p:spPr>
          <a:xfrm>
            <a:off x="1508040" y="3638520"/>
            <a:ext cx="76359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4665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density-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4665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limited by biotic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4665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has a limited spatial dis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a6000d"/>
              </a:buClr>
              <a:buFont typeface="Arial"/>
              <a:buAutoNum type="alphaUcPeriod"/>
              <a:tabLst>
                <a:tab algn="l" pos="46656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randomly dispersed in the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13"/>
          <p:cNvSpPr/>
          <p:nvPr/>
        </p:nvSpPr>
        <p:spPr>
          <a:xfrm>
            <a:off x="1447920" y="454356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PQuestion"/>
          <p:cNvSpPr/>
          <p:nvPr/>
        </p:nvSpPr>
        <p:spPr>
          <a:xfrm>
            <a:off x="1170000" y="1717560"/>
            <a:ext cx="820260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ine shrimp are able to survive only in certa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kes that have a very high salt concentration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is the correct population characteristic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ine shri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7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785880" y="2023920"/>
            <a:ext cx="904392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cies might not be able to expand its population range because it cannot survive the abiotic conditions found in the expanded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85880" y="1309680"/>
            <a:ext cx="3938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pulation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8153280" y="5715000"/>
            <a:ext cx="532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59800" indent="-55980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3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2323800" y="7419600"/>
            <a:ext cx="820260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P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1011240" y="600120"/>
            <a:ext cx="3979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a6000d"/>
                </a:solidFill>
                <a:latin typeface="Arial"/>
              </a:rPr>
              <a:t>Standardized Test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PQuestion"/>
          <p:cNvSpPr/>
          <p:nvPr/>
        </p:nvSpPr>
        <p:spPr>
          <a:xfrm>
            <a:off x="826920" y="1717560"/>
            <a:ext cx="538344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3080">
              <a:tabLst>
                <a:tab algn="l" pos="0"/>
                <a:tab algn="l" pos="114480"/>
                <a:tab algn="l" pos="445788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hy does the popula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rowth level off at 10,000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3" descr="ch 4 stp q 4"/>
          <p:cNvPicPr/>
          <p:nvPr/>
        </p:nvPicPr>
        <p:blipFill>
          <a:blip r:embed="rId2"/>
          <a:stretch/>
        </p:blipFill>
        <p:spPr>
          <a:xfrm>
            <a:off x="6076800" y="1447920"/>
            <a:ext cx="3248280" cy="24368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7"/>
          <p:cNvSpPr/>
          <p:nvPr/>
        </p:nvSpPr>
        <p:spPr>
          <a:xfrm>
            <a:off x="1781280" y="3824280"/>
            <a:ext cx="3700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1508040" y="2743200"/>
            <a:ext cx="458784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Biotic factors have mad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survival difficul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opulation has reache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s carrying capacit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nsity-independent factor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ve slowed the growth of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opulatio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buClr>
                <a:srgbClr val="a6000d"/>
              </a:buClr>
              <a:buFont typeface="Arial"/>
              <a:buAutoNum type="alphaUcPeriod"/>
              <a:tabLst>
                <a:tab algn="l" pos="44784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mmigration into th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pulation has reached th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ximum limi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25"/>
          <p:cNvSpPr/>
          <p:nvPr/>
        </p:nvSpPr>
        <p:spPr>
          <a:xfrm>
            <a:off x="1414440" y="3419640"/>
            <a:ext cx="609480" cy="53316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26" descr="Assesment"/>
          <p:cNvPicPr/>
          <p:nvPr/>
        </p:nvPicPr>
        <p:blipFill>
          <a:blip r:embed="rId3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0120" y="4114800"/>
            <a:ext cx="1752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6720" indent="-66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6720" indent="-66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SPic" descr="Vocab Folder"/>
          <p:cNvPicPr/>
          <p:nvPr/>
        </p:nvPicPr>
        <p:blipFill>
          <a:blip r:embed="rId1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2"/>
          <p:cNvSpPr>
            <a:spLocks noGrp="1"/>
          </p:cNvSpPr>
          <p:nvPr>
            <p:ph type="title"/>
          </p:nvPr>
        </p:nvSpPr>
        <p:spPr>
          <a:xfrm>
            <a:off x="2323800" y="7419600"/>
            <a:ext cx="8202600" cy="304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TP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6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7"/>
          <p:cNvSpPr/>
          <p:nvPr/>
        </p:nvSpPr>
        <p:spPr>
          <a:xfrm>
            <a:off x="41400" y="15840"/>
            <a:ext cx="1450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a6000d"/>
                </a:solidFill>
                <a:latin typeface="Arial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1011240" y="600120"/>
            <a:ext cx="3979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a6000d"/>
                </a:solidFill>
                <a:latin typeface="Arial"/>
              </a:rPr>
              <a:t>Standardized Test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PQuestion"/>
          <p:cNvSpPr/>
          <p:nvPr/>
        </p:nvSpPr>
        <p:spPr>
          <a:xfrm>
            <a:off x="1170000" y="1717560"/>
            <a:ext cx="78246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3080">
              <a:tabLst>
                <a:tab algn="l" pos="0"/>
                <a:tab algn="l" pos="114480"/>
                <a:tab algn="l" pos="445788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organism is the best example of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strateg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1781280" y="3824280"/>
            <a:ext cx="3700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1508040" y="3011400"/>
            <a:ext cx="641664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ho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ab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a6000d"/>
              </a:buClr>
              <a:buFont typeface="Arial"/>
              <a:buAutoNum type="alphaU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SPic"/>
          <p:cNvSpPr/>
          <p:nvPr/>
        </p:nvSpPr>
        <p:spPr>
          <a:xfrm>
            <a:off x="1461960" y="4886280"/>
            <a:ext cx="609840" cy="533520"/>
          </a:xfrm>
          <a:prstGeom prst="ellipse">
            <a:avLst/>
          </a:prstGeom>
          <a:solidFill>
            <a:srgbClr val="ffff99">
              <a:alpha val="35000"/>
            </a:srgbClr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0" descr="Assesment"/>
          <p:cNvPicPr/>
          <p:nvPr/>
        </p:nvPicPr>
        <p:blipFill>
          <a:blip r:embed="rId2"/>
          <a:stretch/>
        </p:blipFill>
        <p:spPr>
          <a:xfrm>
            <a:off x="7983360" y="522360"/>
            <a:ext cx="1846440" cy="3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85880" y="1309680"/>
            <a:ext cx="88153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pulation-Limiting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85880" y="2014560"/>
            <a:ext cx="88153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categories of limiting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factors—density-independent factors and density-dependent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785880" y="1309680"/>
            <a:ext cx="7826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ity-Independent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785880" y="1909800"/>
            <a:ext cx="78264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factor in the environment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that does not depend on the number of members in a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 unit area is 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density-independent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297080" y="3978360"/>
            <a:ext cx="835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1297080" y="458784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1297080" y="518796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1297080" y="579276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8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5053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0"/>
          <p:cNvSpPr/>
          <p:nvPr/>
        </p:nvSpPr>
        <p:spPr>
          <a:xfrm>
            <a:off x="785880" y="1309680"/>
            <a:ext cx="7826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nsity-Dependent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785880" y="2009880"/>
            <a:ext cx="86630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factor in the environment that depends on the number of members in a population per unit area is 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density-dependent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297080" y="3686040"/>
            <a:ext cx="835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297080" y="428148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297080" y="4881600"/>
            <a:ext cx="39607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297080" y="5486400"/>
            <a:ext cx="38098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6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913960" y="3048120"/>
            <a:ext cx="412560" cy="357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8" descr="Vlab_100"/>
          <p:cNvPicPr/>
          <p:nvPr/>
        </p:nvPicPr>
        <p:blipFill>
          <a:blip r:embed="rId3"/>
          <a:stretch/>
        </p:blipFill>
        <p:spPr>
          <a:xfrm>
            <a:off x="4965840" y="4305240"/>
            <a:ext cx="3962160" cy="13208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0"/>
          <p:cNvSpPr/>
          <p:nvPr/>
        </p:nvSpPr>
        <p:spPr>
          <a:xfrm>
            <a:off x="6477120" y="4572000"/>
            <a:ext cx="2361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a6000d"/>
                </a:solidFill>
                <a:latin typeface="Arial"/>
              </a:rPr>
              <a:t>Population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785880" y="13096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opulation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785880" y="2014560"/>
            <a:ext cx="83581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population growth r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GR) explains how fast a given population gr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785880" y="3200400"/>
            <a:ext cx="83581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nat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opulation is the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259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1560600" y="1440"/>
            <a:ext cx="2575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pulation Ec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785880" y="13096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ponential Grow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785880" y="2021040"/>
            <a:ext cx="447192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growth occurs when the growth rate is proportional to the size of the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ch 4 im 9 and 10"/>
          <p:cNvPicPr/>
          <p:nvPr/>
        </p:nvPicPr>
        <p:blipFill>
          <a:blip r:embed="rId1"/>
          <a:stretch/>
        </p:blipFill>
        <p:spPr>
          <a:xfrm>
            <a:off x="5486400" y="1919160"/>
            <a:ext cx="4522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19" name="Group 13"/>
          <p:cNvGrpSpPr/>
          <p:nvPr/>
        </p:nvGrpSpPr>
        <p:grpSpPr>
          <a:xfrm>
            <a:off x="785880" y="4676760"/>
            <a:ext cx="8767800" cy="2052360"/>
            <a:chOff x="785880" y="4676760"/>
            <a:chExt cx="8767800" cy="2052360"/>
          </a:xfrm>
        </p:grpSpPr>
        <p:sp>
          <p:nvSpPr>
            <p:cNvPr id="220" name="Text Box 11"/>
            <p:cNvSpPr/>
            <p:nvPr/>
          </p:nvSpPr>
          <p:spPr>
            <a:xfrm>
              <a:off x="785880" y="4676760"/>
              <a:ext cx="447192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buClr>
                  <a:srgbClr val="a6000d"/>
                </a:buClr>
                <a:buFont typeface="Wingdings" charset="2"/>
                <a:buChar char=""/>
                <a:tabLst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ll populations grow exponentially unti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"/>
            <p:cNvSpPr/>
            <p:nvPr/>
          </p:nvSpPr>
          <p:spPr>
            <a:xfrm>
              <a:off x="1042920" y="5653080"/>
              <a:ext cx="8510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ome limiting factor slows the population’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254160" indent="-254160"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rowth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1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Population Dyna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41400" y="15840"/>
            <a:ext cx="14508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3-09-30T15:31:21Z</dcterms:modified>
  <cp:revision>506</cp:revision>
  <dc:subject/>
  <dc:title>Glencoe Biology</dc:title>
</cp:coreProperties>
</file>